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AAA7B-9C64-464A-BE90-3F2E4B8F7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E72DE-8BF1-48C7-BE5B-5472E0FA4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6112EF-C438-461B-B07E-C5010CDB8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246CEF-9DED-4512-9247-6CD56E520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F0F499-15EC-49F7-A3B2-8E56BE0C1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E58143-82EA-4FB6-B41E-AD7325535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AFDC93-D23C-4837-83F8-B501964C7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6DAE33-9128-4D1F-B471-F1871AD7A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B4A194-474E-485C-A54D-88E80B4F7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C8AA9E-4D56-473B-8E5A-612F81F1D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416989-EE88-4346-874E-6FA03A70A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4FFC23-BE37-4E14-B8DF-085B969B8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ECD2C-A346-4CB9-9D14-157A837D1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76D29C-A7CA-4A75-9941-22C592A8A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1EBD7E-F589-4C6C-9F3D-BC671DBC7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488694-A157-452D-B77E-BF70BCDC4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27C4E2-4F26-4C79-ADB8-BA4981836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AF0B30-A9A6-4D2C-A3D3-00B768365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3A8DB9-D063-43C0-843A-AD20AD993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5940DC-DB1B-411F-82AA-976302695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D00F7B-B006-47AF-8750-16231572D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92B690-5729-4F5A-9AB7-0A918454E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46AAA9-665A-44BB-B3FE-67BD684CD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64320-8EC0-4129-99E4-E15C65306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D9CDC6-CCC9-45D3-B605-81DBB207C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6E1613-C2B3-43B3-8330-2E30C37F3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EDDFFF-2C8B-45BD-B176-A17186C73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7C85E7-0FAD-4024-9EF0-B592F7443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048A96-F039-4F4B-9F09-63E6BCCB6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77B4CD-1EBA-43AE-89E7-1D60CF6D3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7A955C-879D-4992-BB3B-6CF287643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070823-9474-4D65-AD66-D39CFC79D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A4346C-48DC-42B9-97C3-4F9C0BAF9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421432-D212-4D29-B7FD-6CCB008A4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8436F-8608-4DA6-9F77-B1972C378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A2A024-5373-41DE-832C-C6C39D117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142D2D-0BD2-4671-B593-9A1B9057C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53FAE2-57E2-4AFA-8FA4-3D40A0600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B8FD3D-87B9-4948-8B99-7305D63F1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1C1ECB-AA92-4BE9-A95B-0FA0EAEC9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F75537-5C32-4BBF-9EE1-402135D3D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E07246-87E3-4C92-86A6-F87759930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F35642-DC5B-4DB6-A633-523278F67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AF37BF-9B5B-4648-9255-706C0921C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D9438A-C949-40A4-9EBE-56E5C6FC3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D3FAA-8626-4E27-B0E2-E67A570EF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8E8890-B267-4D82-B5A4-B6CB05763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2A481E-0B3C-40B8-A37E-65D22ECBE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3EAD2C-28D8-4490-B66A-5445BED52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73F3ED-A094-4859-8BBB-334F03A66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7E20FE-ABF0-42BF-951E-1EB48D7F7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E2D9FCC-7B11-4BB3-8C89-AE497001A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D581373-284C-4012-A739-766567E75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580380A-77B0-4F5B-AB61-6556DBE73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407339B-89BE-4606-8F88-D7124AF4D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BDCD9CA-A3FF-48B5-82CD-B93951232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DC7A2-4689-4F97-9A1D-FABC22ABE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314AD2C-A38D-4623-A80F-1AFE2BAF1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46BB295-A9ED-448D-BE92-380C13EF6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D99026B-58FC-488A-9DD0-7671844F9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87B6050-7D83-45CA-A805-1B331A025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F3F22F4-6A0F-4AF5-89B4-101536909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97A4A30-06EF-4E95-8A92-3686E6C65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28E4A66-122B-46A8-AADE-B3428C1B5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C0F647D-45CF-409E-B482-73DD5B2EA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DBD98B0-A01C-475B-9BC5-164DA176C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FF97A52-8ED3-441F-A374-D6E6D0126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40495-F149-446A-B269-51E17E4CE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5EAFFEA-8A14-4EEE-B3A1-8FE227FDE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181BDFA-6029-4F1C-A3CC-62A3DCD91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E10F1C3-6D96-485E-91C2-5ECEB6363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61E549C-FB6B-4D32-8657-C5B120088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E16FF6D-DCBD-4BD9-BBC5-5FE5B8784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1C5DF21-5A16-4FBE-914A-59D0AC581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73951BE-ADAB-497F-BD62-75CF875BD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6909EBB-3AA2-4995-8BDC-795B7317F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C8F34C9-E5DB-4209-B701-B0D670735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0BDC92F-FB8B-48F1-8A11-D752037EF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6AAFD-2117-4A78-B557-7785B7BF7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D07E9DE-CEA7-4D4D-AA69-B722AC50F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5DD069A-86F2-4DD6-AB7D-AA161BC56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DF1A385-38F6-4D45-9240-FE34F41FD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FE255E4-B197-4BE1-9CA1-117E68CD3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AB27FC4-8D10-4E3D-9E36-B17D3E3E1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9D35F2C-1371-425E-8AD4-3427E360E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625BF3F-C2E3-4BF9-99AE-6D31BF182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A59AE15-29A9-4570-8713-DC0D5157E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0E9E8EA-95E7-47F2-8DC9-4318C2B25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77E03E8-23C3-472C-BF41-0BA581BE9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2C64F-C4FC-45D6-BD66-26B21F58E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E65D141-C79E-4770-9AF2-3ADE61354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838686F-FFF0-4DF2-9233-68F04A46B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3C26005-9657-4A7E-B406-6F0613ADF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EFBB698-69FD-4F28-99A4-24D29D831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9A336BE-D58F-44D0-8AF5-235336652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4939E8E-D26D-4162-AE56-1BB2C59DD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41B8BA7-D310-460B-91D1-01B55E20D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6747DB0-96C4-451B-A79B-C901B0FF7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E9AD640-49B3-440A-A122-B9B58EE02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E3497D8-7C5F-4632-81EB-630E035F6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D09BB-AE32-45F0-AF92-614D7E5C2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80005FA-19A0-4BDC-8416-484648609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84BCDB1-C27B-45AD-B031-E041B8C1B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1BC4C9C-1D87-4B7B-A0A2-C4EC3ACA8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6E12A91-8C17-4017-A2AB-EF6A23AE5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90BD2EA-AE37-42AD-A0DB-A034015EA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90679C8-1F6A-4D15-9D49-4B3F3E448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89B55F2-49D5-4BE1-B9CF-C48A1E8A2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1EC4E7E-04B8-46A8-902E-23F26D742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9B5FA67-3A2E-4486-B163-D772274DC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BD34B80-33D5-4D74-ADD8-5108316A2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DEB11-CB9A-4EF6-8249-69D09BF83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A43A8-BD3A-47F4-B31A-DFE7C44FD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57C611F-125C-4B4A-B837-B603E7781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707B7F3-F401-47E0-AAAE-EFB6053BE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45B19B4-B899-4940-BF68-BD2D13BBC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767F26A-7D17-41F6-93E9-A938E22BB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7B08D2A-B401-4AE5-B01B-9AA4FC955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1186F1E-9269-40FC-8CD5-C888A4B00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9E16B53-F7BC-4FBC-811D-20F1947FE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1FECEC9-8FDF-4F79-AE0B-BE41AF8FA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0077E4A-BD1E-4E9E-A3BA-7FAF11CF8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7D6ECE6-633A-4E91-B64D-0C69D235B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1A2F3-BCE5-4AEC-823F-6B2ADEB22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8E28DBF-8811-4481-800B-FB882118E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4BF419F-E984-4FC7-AC89-39E145DD9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75631C5-87B1-4D81-B40C-DD83D3849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92777F1-EF0D-4EA0-B69B-ABA91D5C6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0855953-A726-46B0-8CB6-991437427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BF0ED5C-0B0D-4B04-ACEE-D48B897B0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612E5B9-1691-45F0-B77C-E30285D6B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ED5CEE5-4CEB-4670-806E-60F4BDB67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EA22F74-6071-4154-B8CF-3E8C52BBF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5D40EC9-F953-4D30-9143-AD1652228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89BF6-3F95-4064-AB13-F6939EBE7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C26B939-6A32-4931-B11F-5257720BF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06EFC24-B6E5-44EB-9F22-1F872691B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34D8D05-B951-4A91-9229-1192D5124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1EF1F21-4907-4BA3-8B5D-ECA1D8E7A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2311014-5C8E-4678-8ADE-3F8D484DB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48EE83A-2197-4F0D-B673-6FF5E26A3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6EDD71F-4B97-4973-8A69-FDE840046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6EA4824-ED84-47DC-B750-D05A06881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E60D99F-EDD6-4C54-908D-0086B819A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F3FE27E-1294-44B6-B72C-0A16FF2C6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0DEF4-6CA6-48BF-B76D-D65B7C156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F0128B6-3DD4-4026-8F51-A0B145756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F612553-581C-4A9D-BEA2-62040FA4D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3FF158D-637E-43D6-956E-1C0A00B78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6E8F4BC-8D33-4BA6-A949-FA918CF99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0726CF2-B77D-491C-A6FB-936F3BFEC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733F5A4-23D8-49CD-91A2-88219D264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F4D5B25-F5C7-426D-9D07-360EB9C3D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6FB0FA2-6B4A-4BEB-B831-13830D371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005DF0F-CE97-49DD-A784-41BC92E59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F6A0300-D8F2-49E5-93DF-592658932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2D0C7-5A09-4811-8810-917D82E0B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EA9E306-2129-46EA-8130-24C41C76F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421651B-DD87-459A-9E1A-73D7CF932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453441D-E31A-4CC9-80B4-B7F923764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1BD5EC3-3A5C-4370-A2B1-FBDC2EA67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6B70CF4-E8C0-44D8-8304-F23C5777A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158CE63-B7E9-4D5A-B0B1-94B782EC6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004EDA8-78CE-42EA-A412-04F2C1BAC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73C45C3-3BDD-4F72-AB11-131F425DB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5F969CC-6845-41FF-869D-D86A36DF3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67C8F05-8B36-4D30-A054-B6D22E604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1627A1-8F0A-4825-9EAD-6CA3F6841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6D39A0E-CA87-4EC5-B622-36B59DCE6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BE4DD72-0D47-4AA5-B86A-5CA34CC5E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4CC0257-902B-4689-A6E2-ACEA4EC3E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EC17DE-D2BE-4567-B01B-AAE1E1906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FD7308-5D34-4CB4-8BD8-CF551AA84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0BFACF-84F8-4504-9F78-F6CA050DE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8CC843-94D4-4C0C-8774-F5937E646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4EBB6-C6E5-4F60-9D35-D1E9CC8F6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AD9D81-1F30-4D01-B86E-B9476083E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C42C77-A08B-4AC9-B136-88975709A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E9022F-6B11-4751-840D-778309497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0CD911-E3F6-44B4-B2C1-BA82927E2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82E8A8-DEC2-4433-978A-27A10B04C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77FCF5-ACBD-44E6-B279-A6ABA9CA9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19D880-FB3B-4B2E-B62E-69BF68DE0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EB9549-728C-4DBE-876A-9AFBCD980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75082E-CB4A-4160-847D-7E9A369E1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CA2FCA-1D8D-4F2F-B36B-F7824B285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145A0-8DDE-4AA5-8BA2-956E09C11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3228C2-CB01-4412-86FF-AA8DBAB43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5F4C36-5295-40C1-989E-2C6AF8CD1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36E2D9-B4CE-45EA-AC4F-0A41B4CC1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CEF4C1-8F03-45A2-A6A4-A59AE18E9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FF54B3-B1B3-4910-9078-936FA16CB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9AF9D3-85EA-4608-9955-91FFEBD3E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7C46EA-8C73-4629-87BE-CB4C88837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B644F4-A1FE-44CD-8C75-5A2C240EE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424B91-7CF7-4664-B53F-DBA04748B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8CF83A-C7D9-48CB-B5BB-CC4379A9C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A6F6D-8FC2-4F8C-A88C-D836CE598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8B2D53-4BA7-4A1D-A1C9-F999EBA1E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1EE334-60FE-4F40-91E5-54D76EDCC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C6A179-02AA-44F5-B521-41321D6F2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5AA262-F561-4A8B-A068-58FCDD853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D07E06-F425-4D1D-9CF0-E892FA3A4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36DD67-DEF1-416A-85DA-7A9840B3C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AD1600-FFED-4C38-BABB-EF3DB9DC8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64089A-D935-48A3-83EB-CE1D063AF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C79A3B-7383-4EF5-A629-B7E96B325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9B344D-0A79-4CFA-B06E-F1F6C04E3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C934A-D361-4C85-93D9-9FC2783C3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A04404-7921-4E5B-8A43-F5D6462BC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6FD671-2196-4740-898D-176BD671A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11E2D9-D9A4-42F2-B893-D74729DA6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FD9E87-EF5D-4230-9E94-09A66693E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56B15D-8C9E-4957-8FA4-5B1612096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3A1D96-5266-4C79-9A05-F55545A93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9E9072-C055-4E44-AFC7-A2D74C17F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7D226D-3DD2-4C26-9116-2DECF8E32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03ED25-FC20-40E8-A5F6-2C13B6B5F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8B7448-592E-4A3F-8989-9AE599048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09525-AC2B-4671-8633-7721396D2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799AF8-158C-448C-8722-6402762E7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3D9FE9-017F-4C50-A696-377A657CD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AC7860-9845-44C1-8938-F573900D7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B6A5A6-4EEE-432A-95FB-7844AC9BE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53DBC8-FF31-4A51-AF81-B5FA0234D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714D5C-D43B-4589-9690-EA60CB698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DCC050-1A38-491C-B751-0220F2FC2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FEE74B-D7BB-43B3-A3B0-0D405BF6A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6FA37B-B734-4589-BB3B-9ED9CC7D5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66C49D-23E4-4DA0-9B41-FCA999178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C8717-C4E1-4FCE-9487-59DDDBC84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6DD467-CAAC-40F8-A2A6-C752FE7C8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A530B9-13DB-46B0-85CA-F5C355CFA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01CE4D-CF1F-44B2-8358-4D6928A02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5915F0-8D7A-4257-BCF9-8EADD61F4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32DE6A-6F88-48AB-9D25-409AC9D58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248856-85EF-4C4F-B92A-8740F5E9A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D229B7-4EE6-4140-8E45-4D49AEBAB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28ADD8-8155-414D-88A9-151457E15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48848E-975D-4695-8B35-8C8DCE391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E3BDCC-7CFE-416A-A025-908148DBD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98224-1A5F-4E04-B37D-478BBACCC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206617-647D-4FEA-B98C-21552C8F2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8CB6F8-781B-4B9A-8A89-C7B2ACD91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FA1A39-7E13-48FA-AB90-4099BC6B8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50240B-2E41-4A5B-813C-A51EAB23D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B66E10-11C5-4413-A175-E0C7894CD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89EEA9-8078-4775-9A6D-03DE7B2CD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DC1330-3F03-49C6-8C5B-D7BAECFEC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E8AD77-2ADF-4F0D-A885-B8C66B4E9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71ABA2-6B95-43E6-AA78-03F497531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840B0C-6F3A-4DBC-81B0-A32650478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533D8-3285-4E20-A591-730767205CF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96C77-B9B6-4D2A-AC8D-5979AC2E69C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DC5E5-AD5D-4086-BDC9-3EA463FC3F4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7CA31-37DC-4BDE-8874-27CA3A5994B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13EAD-CC5E-4839-876C-D85B438DEC3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DCB29-DD85-4559-AC4D-3137BBC42E9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A943D-4855-46C1-AD50-DA6D0B1F13E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DD217-B954-4A3F-B238-151A7621607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D0764-C6DC-41EA-8954-8DE5BBEA2ED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1C5FD-AA6F-4F75-A467-9750401C80A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CCB7E-859F-47CB-B36C-4F10C4C834D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8FEF4-587B-417D-BD85-B721F28C0F0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C7CF5-95BA-4BB5-983A-73A5B496970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2B8E9-8619-45E3-80CF-3D7CFA97669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828BB-D4AE-4CF5-91D4-D3727ED8523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3A051-5B14-4853-A00F-A0B843E2610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71FE2-E4E9-4A71-B8DC-10F803A9641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12F70-D627-4567-8C58-BF22375627C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330C3-E5D2-4A6C-BF02-BA73A0F424C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6D1B2-178A-48F3-AE9C-CFD6760674B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F994F-73DC-45AD-B3F8-FC1F13F83B9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D50D8-95D9-43BE-8C04-1B9DBE69119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0FBA5-D968-4D79-A5D6-15EB0BBA2C0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F25F5-D8C8-487D-9184-51060AF150D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180ED-920A-4352-8E84-A71401CABD0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ACB38-3E90-4A5F-8E47-FEFA63BEB6E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9D5E6-067F-4A56-A68A-CD6201E7617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16644-D93B-4A2F-803D-F4D0A8C2C3A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3349D-56B0-4C14-BAC8-B47B39C84C3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F6FA1-7CA4-411B-9054-D6A888B70AA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E2585-080C-452B-9AA2-1010BC978C1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C8353-4A15-487B-962C-8DA51D30D95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76284-4DCE-4F71-AA7B-4444DCAAE54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19946-2A41-4594-8611-EFD3BD69B9E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0D8A2-75AA-439C-9008-4521E92043E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6712C-08E8-4453-9A36-320C6F4D165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1503F-6D0D-47C6-9482-4225F50E6EF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6890C-0885-456F-9B12-337C689D1DB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8C5D6-0847-47ED-B8BD-37000AC005A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7AC39-57AD-4A50-A618-28EDB2EEF9F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2709720" y="2971800"/>
            <a:ext cx="372456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2" name="图片 60428" descr=""/>
          <p:cNvPicPr/>
          <p:nvPr/>
        </p:nvPicPr>
        <p:blipFill>
          <a:blip r:embed="rId1"/>
          <a:stretch/>
        </p:blipFill>
        <p:spPr>
          <a:xfrm>
            <a:off x="333360" y="658800"/>
            <a:ext cx="8477280" cy="6010200"/>
          </a:xfrm>
          <a:prstGeom prst="rect">
            <a:avLst/>
          </a:prstGeom>
          <a:ln w="0">
            <a:noFill/>
          </a:ln>
        </p:spPr>
      </p:pic>
      <p:pic>
        <p:nvPicPr>
          <p:cNvPr id="923" name="Picture 1" descr=""/>
          <p:cNvPicPr/>
          <p:nvPr/>
        </p:nvPicPr>
        <p:blipFill>
          <a:blip r:embed="rId2"/>
          <a:stretch/>
        </p:blipFill>
        <p:spPr>
          <a:xfrm>
            <a:off x="7927920" y="213372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1" descr=""/>
          <p:cNvPicPr/>
          <p:nvPr/>
        </p:nvPicPr>
        <p:blipFill>
          <a:blip r:embed="rId3"/>
          <a:stretch/>
        </p:blipFill>
        <p:spPr>
          <a:xfrm>
            <a:off x="7942320" y="280980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1" descr=""/>
          <p:cNvPicPr/>
          <p:nvPr/>
        </p:nvPicPr>
        <p:blipFill>
          <a:blip r:embed="rId4"/>
          <a:stretch/>
        </p:blipFill>
        <p:spPr>
          <a:xfrm>
            <a:off x="7885080" y="350028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1" descr=""/>
          <p:cNvPicPr/>
          <p:nvPr/>
        </p:nvPicPr>
        <p:blipFill>
          <a:blip r:embed="rId5"/>
          <a:stretch/>
        </p:blipFill>
        <p:spPr>
          <a:xfrm>
            <a:off x="7885080" y="479736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1" descr=""/>
          <p:cNvPicPr/>
          <p:nvPr/>
        </p:nvPicPr>
        <p:blipFill>
          <a:blip r:embed="rId6"/>
          <a:stretch/>
        </p:blipFill>
        <p:spPr>
          <a:xfrm>
            <a:off x="7899480" y="6165720"/>
            <a:ext cx="50328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10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10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8" name="图片 59410" descr=""/>
          <p:cNvPicPr/>
          <p:nvPr/>
        </p:nvPicPr>
        <p:blipFill>
          <a:blip r:embed="rId1"/>
          <a:stretch/>
        </p:blipFill>
        <p:spPr>
          <a:xfrm>
            <a:off x="304920" y="1085760"/>
            <a:ext cx="8534160" cy="468648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1" descr=""/>
          <p:cNvPicPr/>
          <p:nvPr/>
        </p:nvPicPr>
        <p:blipFill>
          <a:blip r:embed="rId2"/>
          <a:stretch/>
        </p:blipFill>
        <p:spPr>
          <a:xfrm>
            <a:off x="971640" y="2637000"/>
            <a:ext cx="4464000" cy="44748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1" descr=""/>
          <p:cNvPicPr/>
          <p:nvPr/>
        </p:nvPicPr>
        <p:blipFill>
          <a:blip r:embed="rId3"/>
          <a:stretch/>
        </p:blipFill>
        <p:spPr>
          <a:xfrm>
            <a:off x="900000" y="3284640"/>
            <a:ext cx="4464000" cy="447480"/>
          </a:xfrm>
          <a:prstGeom prst="rect">
            <a:avLst/>
          </a:prstGeom>
          <a:ln w="0">
            <a:noFill/>
          </a:ln>
        </p:spPr>
      </p:pic>
      <p:pic>
        <p:nvPicPr>
          <p:cNvPr id="931" name="Picture 1" descr=""/>
          <p:cNvPicPr/>
          <p:nvPr/>
        </p:nvPicPr>
        <p:blipFill>
          <a:blip r:embed="rId4"/>
          <a:stretch/>
        </p:blipFill>
        <p:spPr>
          <a:xfrm>
            <a:off x="900000" y="3933720"/>
            <a:ext cx="4464000" cy="447840"/>
          </a:xfrm>
          <a:prstGeom prst="rect">
            <a:avLst/>
          </a:prstGeom>
          <a:ln w="0">
            <a:noFill/>
          </a:ln>
        </p:spPr>
      </p:pic>
      <p:pic>
        <p:nvPicPr>
          <p:cNvPr id="932" name="Picture 1" descr=""/>
          <p:cNvPicPr/>
          <p:nvPr/>
        </p:nvPicPr>
        <p:blipFill>
          <a:blip r:embed="rId5"/>
          <a:stretch/>
        </p:blipFill>
        <p:spPr>
          <a:xfrm>
            <a:off x="900000" y="4653000"/>
            <a:ext cx="496728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10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10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10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10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3" name="图片 58373" descr=""/>
          <p:cNvPicPr/>
          <p:nvPr/>
        </p:nvPicPr>
        <p:blipFill>
          <a:blip r:embed="rId1"/>
          <a:stretch/>
        </p:blipFill>
        <p:spPr>
          <a:xfrm>
            <a:off x="309600" y="790560"/>
            <a:ext cx="8524800" cy="5276880"/>
          </a:xfrm>
          <a:prstGeom prst="rect">
            <a:avLst/>
          </a:prstGeom>
          <a:ln w="0">
            <a:noFill/>
          </a:ln>
        </p:spPr>
      </p:pic>
      <p:pic>
        <p:nvPicPr>
          <p:cNvPr id="934" name="Picture 1" descr=""/>
          <p:cNvPicPr/>
          <p:nvPr/>
        </p:nvPicPr>
        <p:blipFill>
          <a:blip r:embed="rId2"/>
          <a:stretch/>
        </p:blipFill>
        <p:spPr>
          <a:xfrm>
            <a:off x="1692360" y="3068640"/>
            <a:ext cx="3384360" cy="936720"/>
          </a:xfrm>
          <a:prstGeom prst="rect">
            <a:avLst/>
          </a:prstGeom>
          <a:ln w="0">
            <a:noFill/>
          </a:ln>
        </p:spPr>
      </p:pic>
      <p:pic>
        <p:nvPicPr>
          <p:cNvPr id="935" name="Picture 1" descr=""/>
          <p:cNvPicPr/>
          <p:nvPr/>
        </p:nvPicPr>
        <p:blipFill>
          <a:blip r:embed="rId3"/>
          <a:stretch/>
        </p:blipFill>
        <p:spPr>
          <a:xfrm>
            <a:off x="1547640" y="4149720"/>
            <a:ext cx="3168720" cy="447840"/>
          </a:xfrm>
          <a:prstGeom prst="rect">
            <a:avLst/>
          </a:prstGeom>
          <a:ln w="0">
            <a:noFill/>
          </a:ln>
        </p:spPr>
      </p:pic>
      <p:pic>
        <p:nvPicPr>
          <p:cNvPr id="936" name="Picture 1" descr=""/>
          <p:cNvPicPr/>
          <p:nvPr/>
        </p:nvPicPr>
        <p:blipFill>
          <a:blip r:embed="rId4"/>
          <a:stretch/>
        </p:blipFill>
        <p:spPr>
          <a:xfrm>
            <a:off x="1547640" y="4869000"/>
            <a:ext cx="3168720" cy="447480"/>
          </a:xfrm>
          <a:prstGeom prst="rect">
            <a:avLst/>
          </a:prstGeom>
          <a:ln w="0">
            <a:noFill/>
          </a:ln>
        </p:spPr>
      </p:pic>
      <p:pic>
        <p:nvPicPr>
          <p:cNvPr id="937" name="Picture 1" descr=""/>
          <p:cNvPicPr/>
          <p:nvPr/>
        </p:nvPicPr>
        <p:blipFill>
          <a:blip r:embed="rId5"/>
          <a:stretch/>
        </p:blipFill>
        <p:spPr>
          <a:xfrm>
            <a:off x="1403280" y="5502240"/>
            <a:ext cx="684072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5" dur="10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0" dur="10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5" dur="10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0" dur="10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图片 57352" descr=""/>
          <p:cNvPicPr/>
          <p:nvPr/>
        </p:nvPicPr>
        <p:blipFill>
          <a:blip r:embed="rId1"/>
          <a:stretch/>
        </p:blipFill>
        <p:spPr>
          <a:xfrm>
            <a:off x="619200" y="2138400"/>
            <a:ext cx="7905600" cy="258120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1" descr=""/>
          <p:cNvPicPr/>
          <p:nvPr/>
        </p:nvPicPr>
        <p:blipFill>
          <a:blip r:embed="rId2"/>
          <a:stretch/>
        </p:blipFill>
        <p:spPr>
          <a:xfrm>
            <a:off x="1187280" y="2924280"/>
            <a:ext cx="5905800" cy="447480"/>
          </a:xfrm>
          <a:prstGeom prst="rect">
            <a:avLst/>
          </a:prstGeom>
          <a:ln w="0">
            <a:noFill/>
          </a:ln>
        </p:spPr>
      </p:pic>
      <p:pic>
        <p:nvPicPr>
          <p:cNvPr id="940" name="Picture 1" descr=""/>
          <p:cNvPicPr/>
          <p:nvPr/>
        </p:nvPicPr>
        <p:blipFill>
          <a:blip r:embed="rId3"/>
          <a:stretch/>
        </p:blipFill>
        <p:spPr>
          <a:xfrm>
            <a:off x="1042920" y="3557520"/>
            <a:ext cx="7632720" cy="123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7" dur="10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2" dur="10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1" name="图片 56324" descr=""/>
          <p:cNvPicPr/>
          <p:nvPr/>
        </p:nvPicPr>
        <p:blipFill>
          <a:blip r:embed="rId1"/>
          <a:stretch/>
        </p:blipFill>
        <p:spPr>
          <a:xfrm>
            <a:off x="657360" y="1233360"/>
            <a:ext cx="7829280" cy="4391280"/>
          </a:xfrm>
          <a:prstGeom prst="rect">
            <a:avLst/>
          </a:prstGeom>
          <a:ln w="0">
            <a:noFill/>
          </a:ln>
        </p:spPr>
      </p:pic>
      <p:pic>
        <p:nvPicPr>
          <p:cNvPr id="942" name="Picture 1" descr=""/>
          <p:cNvPicPr/>
          <p:nvPr/>
        </p:nvPicPr>
        <p:blipFill>
          <a:blip r:embed="rId2"/>
          <a:stretch/>
        </p:blipFill>
        <p:spPr>
          <a:xfrm>
            <a:off x="1258920" y="2765520"/>
            <a:ext cx="6481800" cy="447480"/>
          </a:xfrm>
          <a:prstGeom prst="rect">
            <a:avLst/>
          </a:prstGeom>
          <a:ln w="0">
            <a:noFill/>
          </a:ln>
        </p:spPr>
      </p:pic>
      <p:pic>
        <p:nvPicPr>
          <p:cNvPr id="943" name="Picture 1" descr=""/>
          <p:cNvPicPr/>
          <p:nvPr/>
        </p:nvPicPr>
        <p:blipFill>
          <a:blip r:embed="rId3"/>
          <a:stretch/>
        </p:blipFill>
        <p:spPr>
          <a:xfrm>
            <a:off x="1187280" y="3429000"/>
            <a:ext cx="6481800" cy="447840"/>
          </a:xfrm>
          <a:prstGeom prst="rect">
            <a:avLst/>
          </a:prstGeom>
          <a:ln w="0">
            <a:noFill/>
          </a:ln>
        </p:spPr>
      </p:pic>
      <p:pic>
        <p:nvPicPr>
          <p:cNvPr id="944" name="Picture 1" descr=""/>
          <p:cNvPicPr/>
          <p:nvPr/>
        </p:nvPicPr>
        <p:blipFill>
          <a:blip r:embed="rId4"/>
          <a:stretch/>
        </p:blipFill>
        <p:spPr>
          <a:xfrm>
            <a:off x="1116000" y="4149720"/>
            <a:ext cx="6481800" cy="447840"/>
          </a:xfrm>
          <a:prstGeom prst="rect">
            <a:avLst/>
          </a:prstGeom>
          <a:ln w="0">
            <a:noFill/>
          </a:ln>
        </p:spPr>
      </p:pic>
      <p:pic>
        <p:nvPicPr>
          <p:cNvPr id="945" name="Picture 1" descr=""/>
          <p:cNvPicPr/>
          <p:nvPr/>
        </p:nvPicPr>
        <p:blipFill>
          <a:blip r:embed="rId5"/>
          <a:stretch/>
        </p:blipFill>
        <p:spPr>
          <a:xfrm>
            <a:off x="1042920" y="4840200"/>
            <a:ext cx="648180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9" dur="10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4" dur="10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9" dur="10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4" dur="10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6" name="图片 55300" descr=""/>
          <p:cNvPicPr/>
          <p:nvPr/>
        </p:nvPicPr>
        <p:blipFill>
          <a:blip r:embed="rId1"/>
          <a:stretch/>
        </p:blipFill>
        <p:spPr>
          <a:xfrm>
            <a:off x="276120" y="843120"/>
            <a:ext cx="8591760" cy="5171760"/>
          </a:xfrm>
          <a:prstGeom prst="rect">
            <a:avLst/>
          </a:prstGeom>
          <a:ln w="0">
            <a:noFill/>
          </a:ln>
        </p:spPr>
      </p:pic>
      <p:pic>
        <p:nvPicPr>
          <p:cNvPr id="947" name="Picture 1" descr=""/>
          <p:cNvPicPr/>
          <p:nvPr/>
        </p:nvPicPr>
        <p:blipFill>
          <a:blip r:embed="rId2"/>
          <a:stretch/>
        </p:blipFill>
        <p:spPr>
          <a:xfrm>
            <a:off x="826920" y="2536920"/>
            <a:ext cx="4176720" cy="447480"/>
          </a:xfrm>
          <a:prstGeom prst="rect">
            <a:avLst/>
          </a:prstGeom>
          <a:ln w="0">
            <a:noFill/>
          </a:ln>
        </p:spPr>
      </p:pic>
      <p:pic>
        <p:nvPicPr>
          <p:cNvPr id="948" name="Picture 1" descr=""/>
          <p:cNvPicPr/>
          <p:nvPr/>
        </p:nvPicPr>
        <p:blipFill>
          <a:blip r:embed="rId3"/>
          <a:stretch/>
        </p:blipFill>
        <p:spPr>
          <a:xfrm>
            <a:off x="826920" y="3213000"/>
            <a:ext cx="4176720" cy="447840"/>
          </a:xfrm>
          <a:prstGeom prst="rect">
            <a:avLst/>
          </a:prstGeom>
          <a:ln w="0">
            <a:noFill/>
          </a:ln>
        </p:spPr>
      </p:pic>
      <p:pic>
        <p:nvPicPr>
          <p:cNvPr id="949" name="Picture 1" descr=""/>
          <p:cNvPicPr/>
          <p:nvPr/>
        </p:nvPicPr>
        <p:blipFill>
          <a:blip r:embed="rId4"/>
          <a:stretch/>
        </p:blipFill>
        <p:spPr>
          <a:xfrm>
            <a:off x="826920" y="3903840"/>
            <a:ext cx="4176720" cy="447480"/>
          </a:xfrm>
          <a:prstGeom prst="rect">
            <a:avLst/>
          </a:prstGeom>
          <a:ln w="0">
            <a:noFill/>
          </a:ln>
        </p:spPr>
      </p:pic>
      <p:pic>
        <p:nvPicPr>
          <p:cNvPr id="950" name="Picture 1" descr=""/>
          <p:cNvPicPr/>
          <p:nvPr/>
        </p:nvPicPr>
        <p:blipFill>
          <a:blip r:embed="rId5"/>
          <a:stretch/>
        </p:blipFill>
        <p:spPr>
          <a:xfrm>
            <a:off x="826920" y="4581360"/>
            <a:ext cx="489744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1" dur="10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6" dur="10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1" dur="10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6" dur="10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1" name="图片 54276" descr=""/>
          <p:cNvPicPr/>
          <p:nvPr/>
        </p:nvPicPr>
        <p:blipFill>
          <a:blip r:embed="rId1"/>
          <a:stretch/>
        </p:blipFill>
        <p:spPr>
          <a:xfrm>
            <a:off x="285840" y="71280"/>
            <a:ext cx="8318520" cy="6720120"/>
          </a:xfrm>
          <a:prstGeom prst="rect">
            <a:avLst/>
          </a:prstGeom>
          <a:ln w="0">
            <a:noFill/>
          </a:ln>
        </p:spPr>
      </p:pic>
      <p:pic>
        <p:nvPicPr>
          <p:cNvPr id="952" name="Picture 1" descr=""/>
          <p:cNvPicPr/>
          <p:nvPr/>
        </p:nvPicPr>
        <p:blipFill>
          <a:blip r:embed="rId2"/>
          <a:stretch/>
        </p:blipFill>
        <p:spPr>
          <a:xfrm>
            <a:off x="826920" y="2276640"/>
            <a:ext cx="4249800" cy="1152360"/>
          </a:xfrm>
          <a:prstGeom prst="rect">
            <a:avLst/>
          </a:prstGeom>
          <a:ln w="0">
            <a:noFill/>
          </a:ln>
        </p:spPr>
      </p:pic>
      <p:pic>
        <p:nvPicPr>
          <p:cNvPr id="953" name="Picture 1" descr=""/>
          <p:cNvPicPr/>
          <p:nvPr/>
        </p:nvPicPr>
        <p:blipFill>
          <a:blip r:embed="rId3"/>
          <a:stretch/>
        </p:blipFill>
        <p:spPr>
          <a:xfrm>
            <a:off x="900000" y="3645000"/>
            <a:ext cx="3672000" cy="447480"/>
          </a:xfrm>
          <a:prstGeom prst="rect">
            <a:avLst/>
          </a:prstGeom>
          <a:ln w="0">
            <a:noFill/>
          </a:ln>
        </p:spPr>
      </p:pic>
      <p:pic>
        <p:nvPicPr>
          <p:cNvPr id="954" name="Picture 1" descr=""/>
          <p:cNvPicPr/>
          <p:nvPr/>
        </p:nvPicPr>
        <p:blipFill>
          <a:blip r:embed="rId4"/>
          <a:stretch/>
        </p:blipFill>
        <p:spPr>
          <a:xfrm>
            <a:off x="971640" y="4292640"/>
            <a:ext cx="3671640" cy="447480"/>
          </a:xfrm>
          <a:prstGeom prst="rect">
            <a:avLst/>
          </a:prstGeom>
          <a:ln w="0">
            <a:noFill/>
          </a:ln>
        </p:spPr>
      </p:pic>
      <p:pic>
        <p:nvPicPr>
          <p:cNvPr id="955" name="Picture 1" descr=""/>
          <p:cNvPicPr/>
          <p:nvPr/>
        </p:nvPicPr>
        <p:blipFill>
          <a:blip r:embed="rId5"/>
          <a:stretch/>
        </p:blipFill>
        <p:spPr>
          <a:xfrm>
            <a:off x="826920" y="4998960"/>
            <a:ext cx="4608720" cy="447840"/>
          </a:xfrm>
          <a:prstGeom prst="rect">
            <a:avLst/>
          </a:prstGeom>
          <a:ln w="0">
            <a:noFill/>
          </a:ln>
        </p:spPr>
      </p:pic>
      <p:pic>
        <p:nvPicPr>
          <p:cNvPr id="956" name="Picture 1" descr=""/>
          <p:cNvPicPr/>
          <p:nvPr/>
        </p:nvPicPr>
        <p:blipFill>
          <a:blip r:embed="rId6"/>
          <a:stretch/>
        </p:blipFill>
        <p:spPr>
          <a:xfrm>
            <a:off x="826920" y="5691240"/>
            <a:ext cx="59058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3" dur="10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8" dur="10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10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8" dur="10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3" dur="10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7" name="图片 52231" descr=""/>
          <p:cNvPicPr/>
          <p:nvPr/>
        </p:nvPicPr>
        <p:blipFill>
          <a:blip r:embed="rId1"/>
          <a:stretch/>
        </p:blipFill>
        <p:spPr>
          <a:xfrm>
            <a:off x="250920" y="4076640"/>
            <a:ext cx="8467560" cy="1876320"/>
          </a:xfrm>
          <a:prstGeom prst="rect">
            <a:avLst/>
          </a:prstGeom>
          <a:ln w="0">
            <a:noFill/>
          </a:ln>
        </p:spPr>
      </p:pic>
      <p:pic>
        <p:nvPicPr>
          <p:cNvPr id="958" name="图片 52232" descr=""/>
          <p:cNvPicPr/>
          <p:nvPr/>
        </p:nvPicPr>
        <p:blipFill>
          <a:blip r:embed="rId2"/>
          <a:stretch/>
        </p:blipFill>
        <p:spPr>
          <a:xfrm>
            <a:off x="900000" y="1484280"/>
            <a:ext cx="7086600" cy="1866960"/>
          </a:xfrm>
          <a:prstGeom prst="rect">
            <a:avLst/>
          </a:prstGeom>
          <a:ln w="0">
            <a:noFill/>
          </a:ln>
        </p:spPr>
      </p:pic>
      <p:pic>
        <p:nvPicPr>
          <p:cNvPr id="959" name="Picture 1" descr=""/>
          <p:cNvPicPr/>
          <p:nvPr/>
        </p:nvPicPr>
        <p:blipFill>
          <a:blip r:embed="rId3"/>
          <a:stretch/>
        </p:blipFill>
        <p:spPr>
          <a:xfrm>
            <a:off x="4097160" y="1628640"/>
            <a:ext cx="503280" cy="720720"/>
          </a:xfrm>
          <a:prstGeom prst="rect">
            <a:avLst/>
          </a:prstGeom>
          <a:ln w="0">
            <a:noFill/>
          </a:ln>
        </p:spPr>
      </p:pic>
      <p:pic>
        <p:nvPicPr>
          <p:cNvPr id="960" name="Picture 1" descr=""/>
          <p:cNvPicPr/>
          <p:nvPr/>
        </p:nvPicPr>
        <p:blipFill>
          <a:blip r:embed="rId4"/>
          <a:stretch/>
        </p:blipFill>
        <p:spPr>
          <a:xfrm>
            <a:off x="4255920" y="2535120"/>
            <a:ext cx="676440" cy="720720"/>
          </a:xfrm>
          <a:prstGeom prst="rect">
            <a:avLst/>
          </a:prstGeom>
          <a:ln w="0">
            <a:noFill/>
          </a:ln>
        </p:spPr>
      </p:pic>
      <p:pic>
        <p:nvPicPr>
          <p:cNvPr id="961" name="Picture 1" descr=""/>
          <p:cNvPicPr/>
          <p:nvPr/>
        </p:nvPicPr>
        <p:blipFill>
          <a:blip r:embed="rId5"/>
          <a:stretch/>
        </p:blipFill>
        <p:spPr>
          <a:xfrm>
            <a:off x="6948360" y="1643040"/>
            <a:ext cx="936720" cy="720720"/>
          </a:xfrm>
          <a:prstGeom prst="rect">
            <a:avLst/>
          </a:prstGeom>
          <a:ln w="0">
            <a:noFill/>
          </a:ln>
        </p:spPr>
      </p:pic>
      <p:pic>
        <p:nvPicPr>
          <p:cNvPr id="962" name="Picture 1" descr=""/>
          <p:cNvPicPr/>
          <p:nvPr/>
        </p:nvPicPr>
        <p:blipFill>
          <a:blip r:embed="rId6"/>
          <a:stretch/>
        </p:blipFill>
        <p:spPr>
          <a:xfrm>
            <a:off x="6948360" y="2492280"/>
            <a:ext cx="936720" cy="720720"/>
          </a:xfrm>
          <a:prstGeom prst="rect">
            <a:avLst/>
          </a:prstGeom>
          <a:ln w="0">
            <a:noFill/>
          </a:ln>
        </p:spPr>
      </p:pic>
      <p:pic>
        <p:nvPicPr>
          <p:cNvPr id="963" name="Picture 1" descr=""/>
          <p:cNvPicPr/>
          <p:nvPr/>
        </p:nvPicPr>
        <p:blipFill>
          <a:blip r:embed="rId7"/>
          <a:stretch/>
        </p:blipFill>
        <p:spPr>
          <a:xfrm>
            <a:off x="1692360" y="4264200"/>
            <a:ext cx="936720" cy="720720"/>
          </a:xfrm>
          <a:prstGeom prst="rect">
            <a:avLst/>
          </a:prstGeom>
          <a:ln w="0">
            <a:noFill/>
          </a:ln>
        </p:spPr>
      </p:pic>
      <p:pic>
        <p:nvPicPr>
          <p:cNvPr id="964" name="Picture 1" descr=""/>
          <p:cNvPicPr/>
          <p:nvPr/>
        </p:nvPicPr>
        <p:blipFill>
          <a:blip r:embed="rId8"/>
          <a:stretch/>
        </p:blipFill>
        <p:spPr>
          <a:xfrm>
            <a:off x="1604880" y="5143680"/>
            <a:ext cx="936720" cy="720720"/>
          </a:xfrm>
          <a:prstGeom prst="rect">
            <a:avLst/>
          </a:prstGeom>
          <a:ln w="0">
            <a:noFill/>
          </a:ln>
        </p:spPr>
      </p:pic>
      <p:pic>
        <p:nvPicPr>
          <p:cNvPr id="965" name="Picture 1" descr=""/>
          <p:cNvPicPr/>
          <p:nvPr/>
        </p:nvPicPr>
        <p:blipFill>
          <a:blip r:embed="rId9"/>
          <a:stretch/>
        </p:blipFill>
        <p:spPr>
          <a:xfrm>
            <a:off x="5003640" y="4221000"/>
            <a:ext cx="936720" cy="720720"/>
          </a:xfrm>
          <a:prstGeom prst="rect">
            <a:avLst/>
          </a:prstGeom>
          <a:ln w="0">
            <a:noFill/>
          </a:ln>
        </p:spPr>
      </p:pic>
      <p:pic>
        <p:nvPicPr>
          <p:cNvPr id="966" name="Picture 1" descr=""/>
          <p:cNvPicPr/>
          <p:nvPr/>
        </p:nvPicPr>
        <p:blipFill>
          <a:blip r:embed="rId10"/>
          <a:stretch/>
        </p:blipFill>
        <p:spPr>
          <a:xfrm>
            <a:off x="4427640" y="5084640"/>
            <a:ext cx="936360" cy="720720"/>
          </a:xfrm>
          <a:prstGeom prst="rect">
            <a:avLst/>
          </a:prstGeom>
          <a:ln w="0">
            <a:noFill/>
          </a:ln>
        </p:spPr>
      </p:pic>
      <p:pic>
        <p:nvPicPr>
          <p:cNvPr id="967" name="Picture 1" descr=""/>
          <p:cNvPicPr/>
          <p:nvPr/>
        </p:nvPicPr>
        <p:blipFill>
          <a:blip r:embed="rId11"/>
          <a:stretch/>
        </p:blipFill>
        <p:spPr>
          <a:xfrm>
            <a:off x="8121600" y="4192560"/>
            <a:ext cx="685800" cy="720720"/>
          </a:xfrm>
          <a:prstGeom prst="rect">
            <a:avLst/>
          </a:prstGeom>
          <a:ln w="0">
            <a:noFill/>
          </a:ln>
        </p:spPr>
      </p:pic>
      <p:pic>
        <p:nvPicPr>
          <p:cNvPr id="968" name="Picture 1" descr=""/>
          <p:cNvPicPr/>
          <p:nvPr/>
        </p:nvPicPr>
        <p:blipFill>
          <a:blip r:embed="rId12"/>
          <a:stretch/>
        </p:blipFill>
        <p:spPr>
          <a:xfrm>
            <a:off x="8115480" y="5070600"/>
            <a:ext cx="685800" cy="7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0" dur="10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5" dur="10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0" dur="10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5" dur="10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0" dur="10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5" dur="10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0" dur="10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5" dur="10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0" dur="10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5" dur="10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22T01:17:52Z</dcterms:modified>
  <cp:revision>2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